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092-6DAE-4BA5-A653-B65D7B93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273-64E9-448D-B367-F03F9894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529-E952-4679-B2B8-AB5932A6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40E-ADA2-4C77-B578-3F6BB497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5AF2-340B-47FD-9E0D-7F44A769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DBC5-1D1B-4D2A-8866-5C049CC7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B751-19C8-4E28-BED2-9E1FF6D0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28B8-8BD7-4F6F-BE50-23820766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8706-B67D-4EF2-B798-12739934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C9C9-FE3E-49B4-BE72-FC48270A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6A62-08D0-4939-85CE-F2A914AA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871-7DBF-453E-8E96-FF6A8086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91C1-155D-4B36-90F4-15330978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ED3C-939B-4D04-9BF5-33DCC62F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6C30-8C59-47CC-8CC1-F13FC7BF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E4BF-C1EA-4CC5-A831-42DD7D21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49E2-943B-422F-9536-61558381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11F-A0A7-48C7-A4ED-A3F40C8F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3E3-AA0E-41AE-B1A6-750C06C1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DAA-F77C-402B-9F05-E951734B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63C-5C99-47CB-8C27-27FE0379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017-468B-46C7-9FBC-18FFB755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7C6-7761-493A-82BC-23A1D98C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EC4-19B4-490A-A780-3B37F5EC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933E-1C60-452F-ADA4-FC2161EF486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F1FF-CE90-4379-9D5C-8CD8665BF31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ВОЛЮЦИЯ-ЛОЖ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User</cp:lastModifiedBy>
  <dcterms:modified xsi:type="dcterms:W3CDTF">2012-06-16T07:59:47Z</dcterms:modified>
  <cp:revision>11</cp:revision>
  <dc:subject/>
  <dc:title>Слайд 1</dc:title>
</cp:coreProperties>
</file>